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108-9C0E-4B20-842A-EEC79FF5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63F-83BD-43B0-A8DA-CDAFF75F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E1F-AD09-4F6A-8F3F-6373E42B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D78-39F7-41FD-BF59-C1DF2C32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F1F-0B65-4723-8433-25250977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99D-02C8-499D-B563-E9DE622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29D-3E79-493B-A762-105B2DC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9AA-AF85-4320-BDC6-11A3E0AE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5B7-24E7-450F-944A-F201BF25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B04-BE99-4B32-84B4-D9993DC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E37-A25E-452B-8512-E148BDA7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D6D-13E5-4040-8DC5-6B5CCE5C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86B3-00A1-4318-A3A8-2E37DB85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3911" r="2082" b="20968"/>
          <a:stretch/>
        </p:blipFill>
        <p:spPr>
          <a:xfrm>
            <a:off x="-900000" y="-27000"/>
            <a:ext cx="7378560" cy="701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56360" y="333360"/>
            <a:ext cx="4753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Willi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kei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bradl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j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s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Ffion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Ffion 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540720" cy="979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The A-Team van"/>
          <p:cNvPicPr/>
          <p:nvPr/>
        </p:nvPicPr>
        <p:blipFill>
          <a:blip r:embed="rId1"/>
          <a:stretch/>
        </p:blipFill>
        <p:spPr>
          <a:xfrm>
            <a:off x="0" y="-46080"/>
            <a:ext cx="9325080" cy="699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3280" y="45277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rebec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14320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ry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4762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ashle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2943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beth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0" y="56800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4360" y="4005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773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dan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-27000"/>
            <a:ext cx="6864480" cy="679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92280"/>
            <a:ext cx="4752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lu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hedy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th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me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d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lew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549440" y="-458640"/>
            <a:ext cx="9325080" cy="74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692280"/>
            <a:ext cx="4753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j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c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christo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e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eli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044720" y="-27000"/>
            <a:ext cx="9541080" cy="979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59280" y="476280"/>
            <a:ext cx="49705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emy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soph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la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bronw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Carrie-a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jac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3911" r="2082" b="20968"/>
          <a:stretch/>
        </p:blipFill>
        <p:spPr>
          <a:xfrm>
            <a:off x="2268360" y="-27000"/>
            <a:ext cx="7378920" cy="701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The A-Team van"/>
          <p:cNvPicPr/>
          <p:nvPr/>
        </p:nvPicPr>
        <p:blipFill>
          <a:blip r:embed="rId1"/>
          <a:stretch/>
        </p:blipFill>
        <p:spPr>
          <a:xfrm>
            <a:off x="0" y="-4608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20600" y="-27000"/>
            <a:ext cx="6864480" cy="6799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325080" cy="74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2:05:25Z</dcterms:created>
  <dc:creator>Betsan Jones</dc:creator>
  <dc:description/>
  <dc:language>en-US</dc:language>
  <cp:lastModifiedBy>Betsan Jones</cp:lastModifiedBy>
  <dcterms:modified xsi:type="dcterms:W3CDTF">2009-03-08T21:53:23Z</dcterms:modified>
  <cp:revision>5</cp:revision>
  <dc:subject/>
  <dc:title>Slide 1</dc:title>
</cp:coreProperties>
</file>